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615-1903-4C06-8DE0-5CE1BCF8EF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D3CB-5094-409B-9276-B7C46AAD6E4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412-F559-4BB2-B711-F1F11AAF03A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231-4DCA-453B-8E95-327CAD4367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AAB4-4D2A-4229-A58E-AFC698E6875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EEA9-8A8C-425B-B39F-2372A2955E7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652-0EE3-44E0-94FC-CE17E210F8A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C82-5CB9-452F-BEC4-4AF6BD0C767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BE0-526C-47DB-8A4D-EA29C6C264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BE30-1AFF-4F43-A6C9-8D310E721FC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B68-9E3C-49FB-B6DC-81A6ADD3A4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B4B-7D51-415E-AC2A-F721F96195C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D42F-8A42-4EDA-A7C2-5A6CF56204D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E517-E047-42DB-BD0A-977E2EADAF1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541-3AE1-44E8-8050-87A8FA781CA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C6A-CFD5-40C7-B2CF-0179C5CAB9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F60-CB90-4DFC-BC5A-4E273C0370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3C92-3B84-4C73-AED6-51A1AD2D5A1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98C0-7FE9-43B5-9BC1-C1FF14574A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E4B-1E26-4472-8207-43296D717A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C1F9-9823-48A1-9730-99EF52578DA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EBA-AB0E-4455-8EDD-844D9AB213A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3A8-4506-4659-AA51-C768F5DB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76B-1DEA-4591-BA48-C4F0B9F7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97A-2487-405B-B3B9-BB11DAB6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DA1-6F47-48EF-A7F9-BF83FC23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B4B-9ACD-44A1-B11A-25FCEC9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22D-ED8D-415D-AE1F-AF72FA91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C77-6B2E-4875-B6EE-E3E7B163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694-B97D-4314-94D9-3352B086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F4B-FC36-40DA-ABA8-285C9C94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565-56B8-4504-A73B-1C3B395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AA4-976A-4141-BD5C-6128E1C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740-6622-4E96-B3F7-9963ABB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690-F26D-411C-AD4E-4C89B4A83AC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1T14:23:39Z</dcterms:modified>
  <cp:revision>7</cp:revision>
  <dc:subject/>
  <dc:title>MANAGEMENT  OF ALCOHOL WITHDRAWAL  IN A GENERAL HOSPITAL SETTING- CL PSYCHIATRY PERSP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